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0B4-0BBA-4F83-92B7-606AEED8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7E5-4E4A-4A11-A315-8E96663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BB1-4B8A-4C02-B00A-B8299274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552-1294-445A-B073-758CAFB7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E63-55D0-475B-8244-6E0DB8DC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9E4-1B55-4DB3-919B-5C7A607B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1C3-7165-4340-9BE1-92F10C18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737-4302-490B-8F0C-D1FC3958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DAF-E5CD-4666-A764-97FBA14C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11A-D2DB-4F4E-832E-A971CE9B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DF0-BA63-4B5B-BD61-11F0597B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2BB-1DBD-45EB-B0BC-E8752CC8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58B5-5E09-407C-84E2-37FD9FDFC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esentation to ERCOT T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ptember 7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ationale for 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C Commissioners expressed concern during market design workshops that a more robust transition plan did not exist (June 200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ard previously approved a Systems Migration Whitepaper that outlined the principles and goals for system migration and stakeholder input (May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utlin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“Pl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RCOT staff has overall responsibility for project management and to implement the transition following the Outline’s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Key Compon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tion Planning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tion Plan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&amp; Market Participant roles (Transition Plan Task Fo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itial Timeline – to be determ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tion Plan Tracks applicable to ERCOT and market participants (MP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specification, procurement, development --ERC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 procurement, development -- M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 Training (specification and applic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 testing and nodal market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Key Compon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et Readiness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plies to operating and settlem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ablishes the sequence of what has to work in order to begin sett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ludes evaluation of market participant and ERCOT personnel read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s for a market readiness declaration describing system readi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ransition Plan Task Force (“TPTF”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PTF is proposed to be the active arm of TAC to provide a venue for MP input and to assist ERCOT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NT dissolved following completion of its tasks and Protocol f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C to assume coordination of all ongoing stakeholder responsibilities -- discharged through TP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PTF purpose is to assure alignment between nodal Protocol requirements and system design/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PTF meets as need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mmended TPTF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rket Participants from each market seg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RCOT representati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RCOT will Chair and provide TPTF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ransition Plan Task Force (“TPTF”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articipate, market participa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st be an ERCOT Corporate M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cknowledge willingness to participate prior to first TPTF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expected to be present at each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required to sign non-disclosure agreements with ERCOT to the extent required by the vendor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ransition Plan Task Force (“TPTF”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vernance (similar to T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PTF decisions must be two-thirds or more of the sum of all fractional v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orum equals 4/7 market se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market segment has one v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ch segment vote has fractional voting, with the exception of the consumer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umer segment voting structure is the same as in T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ransition Plan Task Force (“TPTF”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overnance (similar to T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TPTF cannot reach the required passing vote, TAC will resol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TAC does not resolve timely, ERCOT staff will resol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TPTF decisions may be appealed to T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PTF will report monthly to T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COT must sponsor routine information sharing meetings to discuss progress of, and changes to, the transi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C will assess progress of TPTF and transition effort and provide guidance or direct assignments a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NT Transition Plan Outlin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PTF Comparison to SB7 Transi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B7 Transition set-up a Rapid Response Task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member from each market seg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mbership selected 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ple majority required for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F used during actual software development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PTF will begin during system requirements development phase (timeframes not as sh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RTF effectiveness was question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6:16:01Z</dcterms:created>
  <dc:creator>KGresham</dc:creator>
  <dc:description/>
  <dc:language>en-US</dc:language>
  <cp:lastModifiedBy>KGresham</cp:lastModifiedBy>
  <dcterms:modified xsi:type="dcterms:W3CDTF">2005-09-06T18:22:47Z</dcterms:modified>
  <cp:revision>7</cp:revision>
  <dc:subject/>
  <dc:title>TNT Transition Plan Outline</dc:title>
</cp:coreProperties>
</file>